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A807-D090-4478-ABA4-588530AB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5D07-32A0-4DAC-949B-222CC811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CFC60-3581-42AB-9752-71121A22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58677-B40F-464F-92D4-1D0A42F9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60AB2-42BA-4B1A-948F-715F7A57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E5938-FA00-4E4E-8931-CF6E7434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5F384-C39D-458A-801C-78A1200A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7906E-0E6F-4AF1-B981-6BAF0E26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6A47A-6782-469C-A015-F4DBEDC2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09583-3468-42FD-9BA2-B4FAB139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5DC0E-9039-40D9-BB63-D2E8354C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A2FB1-F9C6-4411-83D6-CA148028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53FB-B433-4A38-98DA-97C66917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6C0B3-073E-42BD-AB5A-174D1837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DDD35-571F-415A-8E93-7C74B648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E4B2A-4FEF-43CA-9AA9-A774A9F0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12642-07FA-46A3-A394-6298FA18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63141-7DB9-4584-A1B2-6D8EE490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40DC5-7697-4AF3-A2CD-9D42A285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C1497-D906-4D84-9F76-5EB07547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76052-B1FE-4294-9DC6-7D8D8BF5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D51F3-AEF5-4967-81DD-699B9FE8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BA364-0965-4A91-8CA1-02DC2E2F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F9B-9962-4701-9BEF-E9EAA81A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B3A73-B758-41D0-A971-319806D7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0D727-8453-4C2B-8EA9-EAD0A861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0CFEC-10A6-4E10-B1F2-058AE22A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C67AE-0215-44D4-8069-2D3422C7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74406-AA88-42EF-92D5-8B2167FE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671D6-CE97-485C-BA3A-E46AC205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1683D-4D8E-425B-B31A-33B543E4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66022-6CD9-48FB-ACC5-1921F89D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19ADE-FE9B-42FB-B41E-5116CE14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8CD03-C51B-4B34-AD29-9499CF25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9BB8-31A0-45C7-85B5-2D44834F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22881-BD9E-47A5-9F67-E2A92206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D5B03-6BD2-40B5-990A-81A7BB84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DB8C4-D169-4312-82FE-05C9811A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DFD36-E7F2-4B45-9467-914C5B4C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D3720-8273-4CA5-8DC9-24E9F5F3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79503-B915-412D-A036-B4D9AE50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2D167-DA1E-4BD5-837A-E11DB5BF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58038-B607-4FA2-A5A4-6061C35B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300BE-ADBA-4B4D-81C9-4EA4DE70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65114-0358-427C-A754-7AFB3384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3B92-8E43-4D73-91E0-0281DBC0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9D157-85E6-4C13-A333-FE415616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38B3B-B33E-443C-9362-A942A2AA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153C9-B71E-42E4-B219-FDBCD319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D101A-148D-48A3-BC17-826E40D2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818DC-F6DC-445F-87D2-1FD6E930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08A64-A9C8-4897-BE0E-8FC4B046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B110C-B83E-423A-B3F3-72D47A78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F997B-F2F8-455A-9052-2C1D53B8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21B19-ED86-4F6D-9AB0-BF9F8270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5D727-B61D-4013-A674-43F1AD9B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3F45-3718-4F96-B166-35FFF9DD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400188-43C3-45F4-8D87-1B31AC14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A47688-5907-4854-8BC6-883AD7F6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31B606-98AE-48D2-B034-358C5306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65354-D947-45DE-9D9E-259D1158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65E8D-4795-4289-82D7-CC318269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14446C-A162-43FD-ACC4-B53F2F86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A5F56-8F22-485C-ACFC-31611B39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75BEC5-C00C-4A7F-8772-D23F9058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53761F-7646-407D-83FB-1BE45121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AC7ED3-6404-4BC9-AC7E-C1E809C6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D0C3-23EF-454E-947E-CEAF1DAF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C1B611-46D9-42E3-B3D6-59FE3696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D1FA86-CDD1-468E-8A82-B94AADA6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6390B7-AAD9-4A99-A582-DDAF313C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EBFD02-B718-4150-A505-437E84FD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F3040C-29B7-400A-B88D-31412E0C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A64AE2-188D-49EE-85EC-4C67A726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4C2F2C-011F-4D50-918E-C035044B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56E614-E13F-4096-9E30-11A74810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02B43C-FEE8-4145-8477-C1CCA63E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1177BE-7BDA-4E23-8A5D-851FEE21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4270-538B-4363-B315-B8ABFC17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B9A13C-5D7F-4D50-BA90-01AB42CE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08941C-C19E-40F3-B1B1-6F35B4F6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E5DB38-F5A1-45D5-80C0-5A2FDB08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F72D7F-5A94-4A7E-9067-E147DA53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A81A2B-AACC-4CA6-A940-F310C66F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00644A-9ECA-417B-BD15-B9DBC48A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2A9057-428E-46D5-A253-AACB6402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02611F-F994-4D8D-B2D3-CDB0FF1D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474B57-D409-4FC7-ADE1-6C12CD8F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51EDED-2281-45D5-B357-F9111CD1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48F1-3FFE-4571-AAF5-2D2ADDB2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2ABE47-4670-4563-963F-A42CD42D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DFA99A-36BA-4FEB-885F-EB6D8797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907ED9-A5E5-4C8F-BA73-80010DA2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65E376-6A0A-4FDA-956A-5F9581BC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8601CD-89DB-43E7-8F34-7403188F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00CF6A-EECF-45BC-B375-B3C711D0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F6990F-B007-40F6-94FD-4CDD567D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AC6E9A-D223-41DB-A9B1-34647631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E8E189-5686-4DCF-9261-C50DE9D5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9BDCE3-5724-49FE-A5B4-E7777047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106D-3973-4AF3-BC87-975D3FCE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261A5A-C7A5-402F-B739-F2A998E9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E193EC-B3B7-4E18-A2EB-DA98E115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8E3E0C-2C34-40FB-BB55-93BD077F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7C4054-CDE2-4A7E-8068-4CBEA773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C71785-0D1A-4293-8B93-FA8F5CE6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CFBA13-F247-4385-B450-31CF0574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9CE49F-3714-458C-8E52-9544F0B2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90A6E6-C23A-461D-A7FC-13F24A3B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9B9CCC-8723-414E-ABCC-493DAC21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1149D9-072C-4A1C-AEEC-EFB2FC57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4B98-D6A9-456D-91B8-B43E1BDF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1AD7-1EF0-4F52-BE27-014A2C5D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A8A0FC-A872-43A2-B5C8-D921E016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96A388-0AD2-493F-A9F2-B2D868E0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DB2186-85C8-4D0E-8123-5D43C096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F2E25C-9995-466D-9C76-D096BCF9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168C56-47E7-41BE-80C1-1B255783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E904ED-5E69-4CDB-8A45-771527AF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59E7FC-40F4-4A60-92FA-F58E1F5B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969E94-122D-4218-B46F-FC14F2CB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419F66-5274-4B9A-B79F-163F05CF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29EF35-E2AF-4E75-B1F6-460CED2D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D17E-A591-4638-8D9A-A356ECA8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C68235-F510-48D6-9251-22B85848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F5ACB3-7EE5-4233-89B1-53A8CA1F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EF0859-DCDA-4C1D-AF6E-48DABB2A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E0D0C7-1C36-4E13-BC98-F8C83A1C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D16623-9CE3-4D0D-8E03-8E150E04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5FB6E4-BCCF-4EE2-8630-C639F374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4A3DFD-4999-42D8-9DD3-407491FE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22049C-FC95-4E73-BCE7-2F61C6AD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EA0AF1-76AA-416F-B062-40074774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561618-5C56-4E7C-8F9E-A48E8C4A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6AFB-CFAE-4F29-8F1E-3E8E552C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23952F-0027-4853-B0F9-2CF7A008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55F5B9-364C-4F13-82A5-9411AD60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B503FB-B2CC-4414-81FD-4F3F09F7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6C3E65-7046-4426-B13B-409682B0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B88082-266A-436C-A836-B0328D10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955527-7794-4830-BC3D-9A5DE956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E7B2E7-F335-493C-9712-3C0E6768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86CFFE-F45F-4BE2-AAC2-63B315FA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A0E858-5652-4EBD-A453-0814BF15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25481D-5193-41E8-9755-53BA2AA1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42E4-D327-4E1B-A212-75C7573B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157AFA-ADB9-41AE-BE8D-BD574796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B90196-E227-499B-B703-F3E7FBB1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EA6CD5-FE6B-4733-B000-B33031D7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50A2C7-207B-4453-90C5-7DFFD994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A57580-4386-4CFC-B7AF-B3F6631E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8286CD-9B3A-4125-80D1-154795C4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5081F0-F64E-40AC-9E16-1AB36EFC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0C9AA4-9604-44C1-B05C-E33F9719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EA7120-025F-487A-9613-FEAB81C5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756DF6-36D7-4788-A3F9-30A0B263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EB0D-5891-4551-8A22-85A0C82C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BA6FBC-8C3E-4B42-B006-07F0A165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B9AB04-F47D-40EB-9738-BF4C3544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11423A-CD67-43E4-8906-AFA44DFE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6762DD-AC66-49BC-BCE2-AE926E04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8AD8EC-0166-4673-8ABE-935B8A41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CA4F07-6555-43E7-8C35-1B16794E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D07AD5-C595-410D-A124-8B06E299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8B3478-6465-402B-A181-7265D251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FDE548-FF36-48C1-8E90-81724BCD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44B89D-D934-4866-941F-89A0EE73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E5EF4-D25D-44D3-B14D-E7CF2BF9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5D3433-723D-4698-96C9-F87D1A10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6EB73F-AC18-4AC3-A167-79205F66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CF4761-09CB-4C07-BEEE-53B82802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1D417-87C8-43F5-80D9-6AF70473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BE856-5854-4B45-A574-8E44E399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A3BD8-0CC3-4B11-B49B-091AC95B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44930-8B44-44D2-8F4F-ED7CAB64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D05-1C5C-4FBB-80E2-86CC5FB4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82350-6675-42DA-8580-02C6DC7C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861CE-E35B-4424-AFAB-62C25841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7A16D-0782-4F5D-B6D5-A6F3231A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F7AFA-316E-493B-B38A-D041484E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41138-CF3E-4CF0-9C38-DECD58F5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6DF86-127C-4B99-B63D-BA6AA329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3A2FD-416B-4979-830A-53D5DFF3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00ABC-BAC6-40FA-A775-B13ADE0C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D65DE-0857-4FA8-AFCA-5CB9D7E0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5B173-6D65-4D2C-882C-C2093103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F61B-0C5B-4574-94DE-ECFEC698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6C169-7459-4429-83AD-33876B19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D3EEB-4B4B-4ABF-9313-692966D0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2974A-BD10-4CD3-8922-799B92A3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E4ED7-6C74-497F-A268-BBFDB444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AD7BF-0226-4C4A-B121-6D25229F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0A814-5083-40EB-861E-DCB3C12E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539BA-7479-4CE2-BB7F-F4B6A584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14E09-1421-4457-A292-B9EEEDCF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A9B6A-9031-421A-8E1E-A7F43FBC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62073-6918-44C1-AC4B-D4893185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C7CC-B285-4A8F-894C-53D576FE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899F4-5A91-4FE7-8EC1-53E42F34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7A506-FF04-41ED-87A4-139AF16D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A76DC-ECF1-437D-B347-AE98609C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53D8F-1C20-4E31-B425-8539D092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6A802-C198-4F9A-9C41-C2EC5206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E141A-9B97-4A53-9780-6E7EC7A0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1F444-5C64-4DD5-AF34-9E2AC24A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86746-9287-4777-8CD3-A5260689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59CC0-389E-4640-9307-CAACA56F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E0843-1E1D-4A40-8E27-76B71A8F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230C-237F-4131-9474-54DA1338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6729F-2A1A-44EA-B856-C499F3FC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BF5F0-C055-4092-A5A0-17327B11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5F26C-12A4-40B5-8AE0-23AD7AA7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A34EC-D57C-4A4D-850D-D5FC7650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832A2-FB9A-4C78-A76F-781BDBAE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4D5C2-B97B-4D0A-B152-D795C6FC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70CFF-FAEF-41A2-B91C-2461EBAD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1F660-4D7B-48E3-8321-22036686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3B892-AA2A-4CF2-A7D7-DE9695B5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AD3CF-8509-4E12-AA7E-769F6F03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F86E-275B-40C5-B111-50FB2D5F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3BE01-1709-4619-B408-53D7670D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D9F60-7C32-4FC0-95F7-06E8C1AE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ADD32-4176-4C71-8B1A-072D1C7A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6A9D5-F6FE-4085-A0FA-8ABAE243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FA9D0-481B-4FD1-9062-A4ADF1D8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20943-63D1-4D16-B1ED-C5DE5064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1D6B0-ACE7-4DDA-BC3D-AAF7133F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3B68D-7498-4117-A271-7AB650A6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2E2EC-9F03-4779-9FA1-A01516B2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78D2E-A86D-4C23-9769-372A28FA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82D0-B9D4-40F7-A9CD-1A9E67EE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DB598-F274-483A-965B-04B43506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F7AF3-A9CE-4ABD-888B-236DC4EF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761AA-3AF3-47D9-9434-91167517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91AF8-5E3F-495B-A7CD-FE42C4ED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9826B-7E29-4E89-9818-CCF8410F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21EBD-510B-4905-BB3C-206D6019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A2EC8-483C-433C-AC8B-524D3904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DB8D5-E5DD-4E7F-A71B-7AFE3BF4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D8265-7528-4972-BA1B-28A4060C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87A9D-DDAD-46A5-861F-0273300E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8356-AD10-435B-855F-7768B70B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ACB84-DD90-455B-B4BA-79522A1E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FF44D-B7FA-4CC8-B7D7-11942734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E21EF-8504-4AD1-BD1E-46BE0EB3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AF1C3-8291-43F1-8DD7-13D6861E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2DA77-172F-4031-9CFE-577F629C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F82AD-7520-48DB-AC42-89F6CCF3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47452-6437-40BA-952B-583BFCF1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72793-843E-42EE-8718-8FF77397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0CD00-4CBC-42F0-927D-1E3FBFB5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68CFB-A085-41C3-B63B-A64B15E3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3C63-4140-47F2-AB32-EFFC9F993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DA1F-DAD3-4C29-A58A-4028A1FB34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EC71-E942-476A-8031-3FE32C04E3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2D69-E7A1-49DF-B971-E34C479CBA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AE40-A921-4951-89A4-A86A5BE340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6EFB-853B-4440-995F-B1B689ED0C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6031-D38C-4281-806A-E0DED297DD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822C-5C7A-428C-8447-998E01DFE8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D7B0-5317-421F-8A31-10A11566CD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239E-3E8C-400E-99F6-DA631BE496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6119-40C8-4036-AC57-9C1BE5EFCF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800C-FE64-49D8-A275-9D5C50B768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87F5-D6FE-45CD-8106-8441E1D731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03AE-29C5-4943-BE9A-BAB0A8A759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2600-A4E7-43AA-9D51-28175C4A2E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1567-B798-48D8-9832-F1D35B6676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F764-F56F-4A70-A801-3714E10D1C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54BC-A6FA-40EB-8889-31B9D845F8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A2C0-41E6-4942-B234-1BD48D35AB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7C08-9E72-4CB1-BA1F-94F2B0710B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4C86-57F8-4C6F-85B7-30F7CA5D2F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6E9A-A3A5-4054-883D-9D44DB5410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BCBD-CDC9-4CFF-AE86-3FEBACB71F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48A0-765D-40A9-B71B-F1A7183107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3F0A-6FD7-4FF7-B022-69CDD86F84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08B5-2026-4D26-814D-1A0B18B1AA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B422-C28B-4086-A762-15CD3B0EB4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0DE5-D033-4AE6-AAB6-F8C3EA479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410C-081B-4854-A36C-5009035016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A949-99D4-46EC-AA50-689D4D9265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C137-0439-4A90-AFEE-F9F494B672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D1E0-D3A6-41C4-8740-6D7D37BED3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936C-ECC7-42BE-9BE2-3ED696F3A7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E0C4-33DB-4FE6-9A9F-35C98B7096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0DBB-6385-4D09-B451-9DB4C22C44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D93F-E3F0-4DAF-B0BC-A9B84D160F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D707-2B30-46D2-A42F-C14C9AB747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9D48-EB6E-4200-86DC-A4D20BAF4E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96B9-6B6F-43DF-99EA-135523B4C5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6017-7265-49E8-B6EA-8C57430325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714760" y="3195720"/>
            <a:ext cx="3714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1" descr=""/>
          <p:cNvPicPr/>
          <p:nvPr/>
        </p:nvPicPr>
        <p:blipFill>
          <a:blip r:embed="rId1"/>
          <a:stretch/>
        </p:blipFill>
        <p:spPr>
          <a:xfrm>
            <a:off x="352440" y="1623960"/>
            <a:ext cx="8439120" cy="36100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2" descr=""/>
          <p:cNvPicPr/>
          <p:nvPr/>
        </p:nvPicPr>
        <p:blipFill>
          <a:blip r:embed="rId2"/>
          <a:stretch/>
        </p:blipFill>
        <p:spPr>
          <a:xfrm>
            <a:off x="5500800" y="1523880"/>
            <a:ext cx="3352680" cy="1908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3" descr=""/>
          <p:cNvPicPr/>
          <p:nvPr/>
        </p:nvPicPr>
        <p:blipFill>
          <a:blip r:embed="rId3"/>
          <a:stretch/>
        </p:blipFill>
        <p:spPr>
          <a:xfrm>
            <a:off x="6643800" y="2673360"/>
            <a:ext cx="2057400" cy="20480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4"/>
          <a:stretch/>
        </p:blipFill>
        <p:spPr>
          <a:xfrm>
            <a:off x="285840" y="2714760"/>
            <a:ext cx="6073560" cy="3981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5"/>
          <a:stretch/>
        </p:blipFill>
        <p:spPr>
          <a:xfrm>
            <a:off x="285840" y="3214800"/>
            <a:ext cx="6073560" cy="3985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6"/>
          <a:stretch/>
        </p:blipFill>
        <p:spPr>
          <a:xfrm>
            <a:off x="285840" y="3611520"/>
            <a:ext cx="6073560" cy="4986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7"/>
          <a:stretch/>
        </p:blipFill>
        <p:spPr>
          <a:xfrm>
            <a:off x="285840" y="4143240"/>
            <a:ext cx="6073560" cy="4813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8"/>
          <a:stretch/>
        </p:blipFill>
        <p:spPr>
          <a:xfrm>
            <a:off x="285840" y="4684680"/>
            <a:ext cx="878688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1" descr=""/>
          <p:cNvPicPr/>
          <p:nvPr/>
        </p:nvPicPr>
        <p:blipFill>
          <a:blip r:embed="rId1"/>
          <a:stretch/>
        </p:blipFill>
        <p:spPr>
          <a:xfrm>
            <a:off x="324000" y="1004760"/>
            <a:ext cx="8496000" cy="48484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2" descr=""/>
          <p:cNvPicPr/>
          <p:nvPr/>
        </p:nvPicPr>
        <p:blipFill>
          <a:blip r:embed="rId2"/>
          <a:stretch/>
        </p:blipFill>
        <p:spPr>
          <a:xfrm>
            <a:off x="5877000" y="2489040"/>
            <a:ext cx="2886120" cy="21718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3"/>
          <a:stretch/>
        </p:blipFill>
        <p:spPr>
          <a:xfrm>
            <a:off x="285840" y="2560680"/>
            <a:ext cx="5429160" cy="3985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4"/>
          <a:stretch/>
        </p:blipFill>
        <p:spPr>
          <a:xfrm>
            <a:off x="285840" y="3000240"/>
            <a:ext cx="5429160" cy="3985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5"/>
          <a:stretch/>
        </p:blipFill>
        <p:spPr>
          <a:xfrm>
            <a:off x="285840" y="3479760"/>
            <a:ext cx="5429160" cy="3985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6"/>
          <a:stretch/>
        </p:blipFill>
        <p:spPr>
          <a:xfrm>
            <a:off x="285840" y="3898800"/>
            <a:ext cx="5429160" cy="39852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7"/>
          <a:stretch/>
        </p:blipFill>
        <p:spPr>
          <a:xfrm>
            <a:off x="285840" y="4387680"/>
            <a:ext cx="5429160" cy="39852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" descr=""/>
          <p:cNvPicPr/>
          <p:nvPr/>
        </p:nvPicPr>
        <p:blipFill>
          <a:blip r:embed="rId8"/>
          <a:stretch/>
        </p:blipFill>
        <p:spPr>
          <a:xfrm>
            <a:off x="285840" y="483696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9"/>
          <a:stretch/>
        </p:blipFill>
        <p:spPr>
          <a:xfrm>
            <a:off x="285840" y="5286240"/>
            <a:ext cx="87868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2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Picture 1" descr=""/>
          <p:cNvPicPr/>
          <p:nvPr/>
        </p:nvPicPr>
        <p:blipFill>
          <a:blip r:embed="rId1"/>
          <a:stretch/>
        </p:blipFill>
        <p:spPr>
          <a:xfrm>
            <a:off x="385920" y="938160"/>
            <a:ext cx="8372160" cy="570564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2" descr=""/>
          <p:cNvPicPr/>
          <p:nvPr/>
        </p:nvPicPr>
        <p:blipFill>
          <a:blip r:embed="rId2"/>
          <a:stretch/>
        </p:blipFill>
        <p:spPr>
          <a:xfrm>
            <a:off x="5857920" y="1928880"/>
            <a:ext cx="2876400" cy="261936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" descr=""/>
          <p:cNvPicPr/>
          <p:nvPr/>
        </p:nvPicPr>
        <p:blipFill>
          <a:blip r:embed="rId3"/>
          <a:stretch/>
        </p:blipFill>
        <p:spPr>
          <a:xfrm>
            <a:off x="285840" y="1936800"/>
            <a:ext cx="5389560" cy="39852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4"/>
          <a:stretch/>
        </p:blipFill>
        <p:spPr>
          <a:xfrm>
            <a:off x="285840" y="2428920"/>
            <a:ext cx="5389560" cy="39852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5"/>
          <a:stretch/>
        </p:blipFill>
        <p:spPr>
          <a:xfrm>
            <a:off x="285840" y="2857680"/>
            <a:ext cx="5389560" cy="39816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" descr=""/>
          <p:cNvPicPr/>
          <p:nvPr/>
        </p:nvPicPr>
        <p:blipFill>
          <a:blip r:embed="rId6"/>
          <a:stretch/>
        </p:blipFill>
        <p:spPr>
          <a:xfrm>
            <a:off x="285840" y="3357720"/>
            <a:ext cx="5389560" cy="39816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" descr=""/>
          <p:cNvPicPr/>
          <p:nvPr/>
        </p:nvPicPr>
        <p:blipFill>
          <a:blip r:embed="rId7"/>
          <a:stretch/>
        </p:blipFill>
        <p:spPr>
          <a:xfrm>
            <a:off x="285840" y="3816360"/>
            <a:ext cx="5389560" cy="39852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4" descr=""/>
          <p:cNvPicPr/>
          <p:nvPr/>
        </p:nvPicPr>
        <p:blipFill>
          <a:blip r:embed="rId8"/>
          <a:stretch/>
        </p:blipFill>
        <p:spPr>
          <a:xfrm>
            <a:off x="285840" y="4226040"/>
            <a:ext cx="5389560" cy="39852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4" descr=""/>
          <p:cNvPicPr/>
          <p:nvPr/>
        </p:nvPicPr>
        <p:blipFill>
          <a:blip r:embed="rId9"/>
          <a:stretch/>
        </p:blipFill>
        <p:spPr>
          <a:xfrm>
            <a:off x="285840" y="474516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4" descr=""/>
          <p:cNvPicPr/>
          <p:nvPr/>
        </p:nvPicPr>
        <p:blipFill>
          <a:blip r:embed="rId10"/>
          <a:stretch/>
        </p:blipFill>
        <p:spPr>
          <a:xfrm>
            <a:off x="285840" y="517356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11"/>
          <a:stretch/>
        </p:blipFill>
        <p:spPr>
          <a:xfrm>
            <a:off x="285840" y="562284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4" descr=""/>
          <p:cNvPicPr/>
          <p:nvPr/>
        </p:nvPicPr>
        <p:blipFill>
          <a:blip r:embed="rId12"/>
          <a:stretch/>
        </p:blipFill>
        <p:spPr>
          <a:xfrm>
            <a:off x="285840" y="6083280"/>
            <a:ext cx="878688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2" descr=""/>
          <p:cNvPicPr/>
          <p:nvPr/>
        </p:nvPicPr>
        <p:blipFill>
          <a:blip r:embed="rId1"/>
          <a:stretch/>
        </p:blipFill>
        <p:spPr>
          <a:xfrm>
            <a:off x="333360" y="928800"/>
            <a:ext cx="8477280" cy="568620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2" descr=""/>
          <p:cNvPicPr/>
          <p:nvPr/>
        </p:nvPicPr>
        <p:blipFill>
          <a:blip r:embed="rId2"/>
          <a:stretch/>
        </p:blipFill>
        <p:spPr>
          <a:xfrm>
            <a:off x="6326280" y="2389320"/>
            <a:ext cx="2400120" cy="234288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4" descr=""/>
          <p:cNvPicPr/>
          <p:nvPr/>
        </p:nvPicPr>
        <p:blipFill>
          <a:blip r:embed="rId3"/>
          <a:stretch/>
        </p:blipFill>
        <p:spPr>
          <a:xfrm>
            <a:off x="285840" y="2378160"/>
            <a:ext cx="5851440" cy="39852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4" descr=""/>
          <p:cNvPicPr/>
          <p:nvPr/>
        </p:nvPicPr>
        <p:blipFill>
          <a:blip r:embed="rId4"/>
          <a:stretch/>
        </p:blipFill>
        <p:spPr>
          <a:xfrm>
            <a:off x="285840" y="2836800"/>
            <a:ext cx="5851440" cy="39852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4" descr=""/>
          <p:cNvPicPr/>
          <p:nvPr/>
        </p:nvPicPr>
        <p:blipFill>
          <a:blip r:embed="rId5"/>
          <a:stretch/>
        </p:blipFill>
        <p:spPr>
          <a:xfrm>
            <a:off x="285840" y="3346560"/>
            <a:ext cx="5851440" cy="39852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4" descr=""/>
          <p:cNvPicPr/>
          <p:nvPr/>
        </p:nvPicPr>
        <p:blipFill>
          <a:blip r:embed="rId6"/>
          <a:stretch/>
        </p:blipFill>
        <p:spPr>
          <a:xfrm>
            <a:off x="285840" y="3755880"/>
            <a:ext cx="5851440" cy="39852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4" descr=""/>
          <p:cNvPicPr/>
          <p:nvPr/>
        </p:nvPicPr>
        <p:blipFill>
          <a:blip r:embed="rId7"/>
          <a:stretch/>
        </p:blipFill>
        <p:spPr>
          <a:xfrm>
            <a:off x="285840" y="4224240"/>
            <a:ext cx="5851440" cy="39852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4" descr=""/>
          <p:cNvPicPr/>
          <p:nvPr/>
        </p:nvPicPr>
        <p:blipFill>
          <a:blip r:embed="rId8"/>
          <a:stretch/>
        </p:blipFill>
        <p:spPr>
          <a:xfrm>
            <a:off x="285840" y="4694400"/>
            <a:ext cx="6929280" cy="39816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4" descr=""/>
          <p:cNvPicPr/>
          <p:nvPr/>
        </p:nvPicPr>
        <p:blipFill>
          <a:blip r:embed="rId9"/>
          <a:stretch/>
        </p:blipFill>
        <p:spPr>
          <a:xfrm>
            <a:off x="285840" y="517356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4" descr=""/>
          <p:cNvPicPr/>
          <p:nvPr/>
        </p:nvPicPr>
        <p:blipFill>
          <a:blip r:embed="rId10"/>
          <a:stretch/>
        </p:blipFill>
        <p:spPr>
          <a:xfrm>
            <a:off x="285840" y="567360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" descr=""/>
          <p:cNvPicPr/>
          <p:nvPr/>
        </p:nvPicPr>
        <p:blipFill>
          <a:blip r:embed="rId11"/>
          <a:stretch/>
        </p:blipFill>
        <p:spPr>
          <a:xfrm>
            <a:off x="285840" y="6102360"/>
            <a:ext cx="878688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8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3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8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3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8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3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Picture 1" descr=""/>
          <p:cNvPicPr/>
          <p:nvPr/>
        </p:nvPicPr>
        <p:blipFill>
          <a:blip r:embed="rId1"/>
          <a:stretch/>
        </p:blipFill>
        <p:spPr>
          <a:xfrm>
            <a:off x="1071720" y="857160"/>
            <a:ext cx="6514920" cy="13525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2" descr=""/>
          <p:cNvPicPr/>
          <p:nvPr/>
        </p:nvPicPr>
        <p:blipFill>
          <a:blip r:embed="rId2"/>
          <a:stretch/>
        </p:blipFill>
        <p:spPr>
          <a:xfrm>
            <a:off x="357120" y="3000240"/>
            <a:ext cx="8382240" cy="35816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4" descr=""/>
          <p:cNvPicPr/>
          <p:nvPr/>
        </p:nvPicPr>
        <p:blipFill>
          <a:blip r:embed="rId3"/>
          <a:stretch/>
        </p:blipFill>
        <p:spPr>
          <a:xfrm>
            <a:off x="285840" y="85716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4" descr=""/>
          <p:cNvPicPr/>
          <p:nvPr/>
        </p:nvPicPr>
        <p:blipFill>
          <a:blip r:embed="rId4"/>
          <a:stretch/>
        </p:blipFill>
        <p:spPr>
          <a:xfrm>
            <a:off x="285840" y="134604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4" descr=""/>
          <p:cNvPicPr/>
          <p:nvPr/>
        </p:nvPicPr>
        <p:blipFill>
          <a:blip r:embed="rId5"/>
          <a:stretch/>
        </p:blipFill>
        <p:spPr>
          <a:xfrm>
            <a:off x="285840" y="1825560"/>
            <a:ext cx="878688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0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Picture 1" descr=""/>
          <p:cNvPicPr/>
          <p:nvPr/>
        </p:nvPicPr>
        <p:blipFill>
          <a:blip r:embed="rId1"/>
          <a:stretch/>
        </p:blipFill>
        <p:spPr>
          <a:xfrm>
            <a:off x="714240" y="1071720"/>
            <a:ext cx="7820280" cy="54385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2" descr=""/>
          <p:cNvPicPr/>
          <p:nvPr/>
        </p:nvPicPr>
        <p:blipFill>
          <a:blip r:embed="rId2"/>
          <a:stretch/>
        </p:blipFill>
        <p:spPr>
          <a:xfrm>
            <a:off x="5654520" y="1000080"/>
            <a:ext cx="2829240" cy="24764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" descr=""/>
          <p:cNvPicPr/>
          <p:nvPr/>
        </p:nvPicPr>
        <p:blipFill>
          <a:blip r:embed="rId3"/>
          <a:stretch/>
        </p:blipFill>
        <p:spPr>
          <a:xfrm>
            <a:off x="285840" y="1122480"/>
            <a:ext cx="5232240" cy="398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4" descr=""/>
          <p:cNvPicPr/>
          <p:nvPr/>
        </p:nvPicPr>
        <p:blipFill>
          <a:blip r:embed="rId4"/>
          <a:stretch/>
        </p:blipFill>
        <p:spPr>
          <a:xfrm>
            <a:off x="285840" y="1590840"/>
            <a:ext cx="5232240" cy="3981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4" descr=""/>
          <p:cNvPicPr/>
          <p:nvPr/>
        </p:nvPicPr>
        <p:blipFill>
          <a:blip r:embed="rId5"/>
          <a:stretch/>
        </p:blipFill>
        <p:spPr>
          <a:xfrm>
            <a:off x="285840" y="2050920"/>
            <a:ext cx="5232240" cy="3985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4" descr=""/>
          <p:cNvPicPr/>
          <p:nvPr/>
        </p:nvPicPr>
        <p:blipFill>
          <a:blip r:embed="rId6"/>
          <a:stretch/>
        </p:blipFill>
        <p:spPr>
          <a:xfrm>
            <a:off x="285840" y="2511360"/>
            <a:ext cx="5232240" cy="3985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4" descr=""/>
          <p:cNvPicPr/>
          <p:nvPr/>
        </p:nvPicPr>
        <p:blipFill>
          <a:blip r:embed="rId7"/>
          <a:stretch/>
        </p:blipFill>
        <p:spPr>
          <a:xfrm>
            <a:off x="285840" y="2968560"/>
            <a:ext cx="5232240" cy="3985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4" descr=""/>
          <p:cNvPicPr/>
          <p:nvPr/>
        </p:nvPicPr>
        <p:blipFill>
          <a:blip r:embed="rId8"/>
          <a:stretch/>
        </p:blipFill>
        <p:spPr>
          <a:xfrm>
            <a:off x="285840" y="3429000"/>
            <a:ext cx="5232240" cy="3985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4" descr=""/>
          <p:cNvPicPr/>
          <p:nvPr/>
        </p:nvPicPr>
        <p:blipFill>
          <a:blip r:embed="rId9"/>
          <a:stretch/>
        </p:blipFill>
        <p:spPr>
          <a:xfrm>
            <a:off x="285840" y="389880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4" descr=""/>
          <p:cNvPicPr/>
          <p:nvPr/>
        </p:nvPicPr>
        <p:blipFill>
          <a:blip r:embed="rId10"/>
          <a:stretch/>
        </p:blipFill>
        <p:spPr>
          <a:xfrm>
            <a:off x="285840" y="4278240"/>
            <a:ext cx="8786880" cy="54000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4" descr=""/>
          <p:cNvPicPr/>
          <p:nvPr/>
        </p:nvPicPr>
        <p:blipFill>
          <a:blip r:embed="rId11"/>
          <a:stretch/>
        </p:blipFill>
        <p:spPr>
          <a:xfrm>
            <a:off x="285840" y="489888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4" descr=""/>
          <p:cNvPicPr/>
          <p:nvPr/>
        </p:nvPicPr>
        <p:blipFill>
          <a:blip r:embed="rId12"/>
          <a:stretch/>
        </p:blipFill>
        <p:spPr>
          <a:xfrm>
            <a:off x="285840" y="545940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4" descr=""/>
          <p:cNvPicPr/>
          <p:nvPr/>
        </p:nvPicPr>
        <p:blipFill>
          <a:blip r:embed="rId13"/>
          <a:stretch/>
        </p:blipFill>
        <p:spPr>
          <a:xfrm>
            <a:off x="285840" y="6000840"/>
            <a:ext cx="878688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7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2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7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2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4210200" cy="48481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3" descr=""/>
          <p:cNvPicPr/>
          <p:nvPr/>
        </p:nvPicPr>
        <p:blipFill>
          <a:blip r:embed="rId2"/>
          <a:stretch/>
        </p:blipFill>
        <p:spPr>
          <a:xfrm>
            <a:off x="4838760" y="1886040"/>
            <a:ext cx="4162320" cy="44006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5" descr=""/>
          <p:cNvPicPr/>
          <p:nvPr/>
        </p:nvPicPr>
        <p:blipFill>
          <a:blip r:embed="rId3"/>
          <a:stretch/>
        </p:blipFill>
        <p:spPr>
          <a:xfrm>
            <a:off x="839880" y="2259000"/>
            <a:ext cx="1635120" cy="3081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5" descr=""/>
          <p:cNvPicPr/>
          <p:nvPr/>
        </p:nvPicPr>
        <p:blipFill>
          <a:blip r:embed="rId4"/>
          <a:stretch/>
        </p:blipFill>
        <p:spPr>
          <a:xfrm>
            <a:off x="1087560" y="3060720"/>
            <a:ext cx="1633320" cy="3078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5" descr=""/>
          <p:cNvPicPr/>
          <p:nvPr/>
        </p:nvPicPr>
        <p:blipFill>
          <a:blip r:embed="rId5"/>
          <a:stretch/>
        </p:blipFill>
        <p:spPr>
          <a:xfrm>
            <a:off x="2475000" y="3454560"/>
            <a:ext cx="834840" cy="3078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5" descr=""/>
          <p:cNvPicPr/>
          <p:nvPr/>
        </p:nvPicPr>
        <p:blipFill>
          <a:blip r:embed="rId6"/>
          <a:stretch/>
        </p:blipFill>
        <p:spPr>
          <a:xfrm>
            <a:off x="1015920" y="3881520"/>
            <a:ext cx="835200" cy="3078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5" descr=""/>
          <p:cNvPicPr/>
          <p:nvPr/>
        </p:nvPicPr>
        <p:blipFill>
          <a:blip r:embed="rId7"/>
          <a:stretch/>
        </p:blipFill>
        <p:spPr>
          <a:xfrm>
            <a:off x="1069920" y="4278240"/>
            <a:ext cx="1592280" cy="3081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5" descr=""/>
          <p:cNvPicPr/>
          <p:nvPr/>
        </p:nvPicPr>
        <p:blipFill>
          <a:blip r:embed="rId8"/>
          <a:stretch/>
        </p:blipFill>
        <p:spPr>
          <a:xfrm>
            <a:off x="1298520" y="5494320"/>
            <a:ext cx="928800" cy="30816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7" descr=""/>
          <p:cNvPicPr/>
          <p:nvPr/>
        </p:nvPicPr>
        <p:blipFill>
          <a:blip r:embed="rId9"/>
          <a:stretch/>
        </p:blipFill>
        <p:spPr>
          <a:xfrm>
            <a:off x="5915160" y="3801960"/>
            <a:ext cx="21621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2" descr=""/>
          <p:cNvPicPr/>
          <p:nvPr/>
        </p:nvPicPr>
        <p:blipFill>
          <a:blip r:embed="rId1"/>
          <a:stretch/>
        </p:blipFill>
        <p:spPr>
          <a:xfrm>
            <a:off x="214200" y="1071720"/>
            <a:ext cx="4200480" cy="39337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2"/>
          <a:stretch/>
        </p:blipFill>
        <p:spPr>
          <a:xfrm>
            <a:off x="4714920" y="1181160"/>
            <a:ext cx="4209840" cy="31050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5" descr=""/>
          <p:cNvPicPr/>
          <p:nvPr/>
        </p:nvPicPr>
        <p:blipFill>
          <a:blip r:embed="rId3"/>
          <a:stretch/>
        </p:blipFill>
        <p:spPr>
          <a:xfrm>
            <a:off x="1714680" y="1089000"/>
            <a:ext cx="2811240" cy="3081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5" descr=""/>
          <p:cNvPicPr/>
          <p:nvPr/>
        </p:nvPicPr>
        <p:blipFill>
          <a:blip r:embed="rId4"/>
          <a:stretch/>
        </p:blipFill>
        <p:spPr>
          <a:xfrm>
            <a:off x="214200" y="1593720"/>
            <a:ext cx="3936960" cy="5382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5" descr=""/>
          <p:cNvPicPr/>
          <p:nvPr/>
        </p:nvPicPr>
        <p:blipFill>
          <a:blip r:embed="rId5"/>
          <a:stretch/>
        </p:blipFill>
        <p:spPr>
          <a:xfrm>
            <a:off x="206280" y="2259000"/>
            <a:ext cx="3867120" cy="3081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5" descr=""/>
          <p:cNvPicPr/>
          <p:nvPr/>
        </p:nvPicPr>
        <p:blipFill>
          <a:blip r:embed="rId6"/>
          <a:stretch/>
        </p:blipFill>
        <p:spPr>
          <a:xfrm>
            <a:off x="117360" y="2657520"/>
            <a:ext cx="3868920" cy="3078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5" descr=""/>
          <p:cNvPicPr/>
          <p:nvPr/>
        </p:nvPicPr>
        <p:blipFill>
          <a:blip r:embed="rId7"/>
          <a:stretch/>
        </p:blipFill>
        <p:spPr>
          <a:xfrm>
            <a:off x="173160" y="3006720"/>
            <a:ext cx="3868560" cy="3081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5" descr=""/>
          <p:cNvPicPr/>
          <p:nvPr/>
        </p:nvPicPr>
        <p:blipFill>
          <a:blip r:embed="rId8"/>
          <a:stretch/>
        </p:blipFill>
        <p:spPr>
          <a:xfrm>
            <a:off x="85680" y="3421080"/>
            <a:ext cx="3867120" cy="3078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5" descr=""/>
          <p:cNvPicPr/>
          <p:nvPr/>
        </p:nvPicPr>
        <p:blipFill>
          <a:blip r:embed="rId9"/>
          <a:stretch/>
        </p:blipFill>
        <p:spPr>
          <a:xfrm>
            <a:off x="68400" y="3835440"/>
            <a:ext cx="3868560" cy="3078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5" descr=""/>
          <p:cNvPicPr/>
          <p:nvPr/>
        </p:nvPicPr>
        <p:blipFill>
          <a:blip r:embed="rId10"/>
          <a:stretch/>
        </p:blipFill>
        <p:spPr>
          <a:xfrm>
            <a:off x="123840" y="4249800"/>
            <a:ext cx="3867120" cy="3078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5" descr=""/>
          <p:cNvPicPr/>
          <p:nvPr/>
        </p:nvPicPr>
        <p:blipFill>
          <a:blip r:embed="rId11"/>
          <a:stretch/>
        </p:blipFill>
        <p:spPr>
          <a:xfrm>
            <a:off x="108000" y="4575240"/>
            <a:ext cx="3867120" cy="4316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5" descr=""/>
          <p:cNvPicPr/>
          <p:nvPr/>
        </p:nvPicPr>
        <p:blipFill>
          <a:blip r:embed="rId12"/>
          <a:stretch/>
        </p:blipFill>
        <p:spPr>
          <a:xfrm>
            <a:off x="6129360" y="3970440"/>
            <a:ext cx="46512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2" descr=""/>
          <p:cNvPicPr/>
          <p:nvPr/>
        </p:nvPicPr>
        <p:blipFill>
          <a:blip r:embed="rId1"/>
          <a:stretch/>
        </p:blipFill>
        <p:spPr>
          <a:xfrm>
            <a:off x="414360" y="1119240"/>
            <a:ext cx="8315280" cy="52387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2"/>
          <a:stretch/>
        </p:blipFill>
        <p:spPr>
          <a:xfrm>
            <a:off x="5786280" y="928800"/>
            <a:ext cx="3000600" cy="6429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5" descr=""/>
          <p:cNvPicPr/>
          <p:nvPr/>
        </p:nvPicPr>
        <p:blipFill>
          <a:blip r:embed="rId3"/>
          <a:stretch/>
        </p:blipFill>
        <p:spPr>
          <a:xfrm>
            <a:off x="7969320" y="2406600"/>
            <a:ext cx="463320" cy="3081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5" descr=""/>
          <p:cNvPicPr/>
          <p:nvPr/>
        </p:nvPicPr>
        <p:blipFill>
          <a:blip r:embed="rId4"/>
          <a:stretch/>
        </p:blipFill>
        <p:spPr>
          <a:xfrm>
            <a:off x="7969320" y="4921200"/>
            <a:ext cx="463320" cy="3081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5" descr=""/>
          <p:cNvPicPr/>
          <p:nvPr/>
        </p:nvPicPr>
        <p:blipFill>
          <a:blip r:embed="rId5"/>
          <a:stretch/>
        </p:blipFill>
        <p:spPr>
          <a:xfrm>
            <a:off x="7969320" y="5634000"/>
            <a:ext cx="46332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461880" y="785880"/>
            <a:ext cx="8220240" cy="5981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5" descr=""/>
          <p:cNvPicPr/>
          <p:nvPr/>
        </p:nvPicPr>
        <p:blipFill>
          <a:blip r:embed="rId2"/>
          <a:stretch/>
        </p:blipFill>
        <p:spPr>
          <a:xfrm>
            <a:off x="7977240" y="3133800"/>
            <a:ext cx="463320" cy="3078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5" descr=""/>
          <p:cNvPicPr/>
          <p:nvPr/>
        </p:nvPicPr>
        <p:blipFill>
          <a:blip r:embed="rId3"/>
          <a:stretch/>
        </p:blipFill>
        <p:spPr>
          <a:xfrm>
            <a:off x="4875120" y="4500720"/>
            <a:ext cx="1150920" cy="40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2" descr=""/>
          <p:cNvPicPr/>
          <p:nvPr/>
        </p:nvPicPr>
        <p:blipFill>
          <a:blip r:embed="rId1"/>
          <a:stretch/>
        </p:blipFill>
        <p:spPr>
          <a:xfrm>
            <a:off x="433440" y="1071720"/>
            <a:ext cx="8277120" cy="52290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5" descr=""/>
          <p:cNvPicPr/>
          <p:nvPr/>
        </p:nvPicPr>
        <p:blipFill>
          <a:blip r:embed="rId2"/>
          <a:stretch/>
        </p:blipFill>
        <p:spPr>
          <a:xfrm>
            <a:off x="5648400" y="1123920"/>
            <a:ext cx="463320" cy="3081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5" descr=""/>
          <p:cNvPicPr/>
          <p:nvPr/>
        </p:nvPicPr>
        <p:blipFill>
          <a:blip r:embed="rId3"/>
          <a:stretch/>
        </p:blipFill>
        <p:spPr>
          <a:xfrm>
            <a:off x="2019240" y="2178000"/>
            <a:ext cx="465120" cy="3081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5" descr=""/>
          <p:cNvPicPr/>
          <p:nvPr/>
        </p:nvPicPr>
        <p:blipFill>
          <a:blip r:embed="rId4"/>
          <a:stretch/>
        </p:blipFill>
        <p:spPr>
          <a:xfrm>
            <a:off x="650880" y="3886200"/>
            <a:ext cx="5140440" cy="368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5" descr=""/>
          <p:cNvPicPr/>
          <p:nvPr/>
        </p:nvPicPr>
        <p:blipFill>
          <a:blip r:embed="rId5"/>
          <a:stretch/>
        </p:blipFill>
        <p:spPr>
          <a:xfrm>
            <a:off x="600120" y="4316400"/>
            <a:ext cx="5138640" cy="3081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5" descr=""/>
          <p:cNvPicPr/>
          <p:nvPr/>
        </p:nvPicPr>
        <p:blipFill>
          <a:blip r:embed="rId6"/>
          <a:stretch/>
        </p:blipFill>
        <p:spPr>
          <a:xfrm>
            <a:off x="584280" y="4657680"/>
            <a:ext cx="5138640" cy="3081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5" descr=""/>
          <p:cNvPicPr/>
          <p:nvPr/>
        </p:nvPicPr>
        <p:blipFill>
          <a:blip r:embed="rId7"/>
          <a:stretch/>
        </p:blipFill>
        <p:spPr>
          <a:xfrm>
            <a:off x="566640" y="5000760"/>
            <a:ext cx="5139000" cy="3078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5" descr=""/>
          <p:cNvPicPr/>
          <p:nvPr/>
        </p:nvPicPr>
        <p:blipFill>
          <a:blip r:embed="rId8"/>
          <a:stretch/>
        </p:blipFill>
        <p:spPr>
          <a:xfrm>
            <a:off x="550800" y="5288040"/>
            <a:ext cx="5138640" cy="3078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5" descr=""/>
          <p:cNvPicPr/>
          <p:nvPr/>
        </p:nvPicPr>
        <p:blipFill>
          <a:blip r:embed="rId9"/>
          <a:stretch/>
        </p:blipFill>
        <p:spPr>
          <a:xfrm>
            <a:off x="677880" y="5629320"/>
            <a:ext cx="8188200" cy="3078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5" descr=""/>
          <p:cNvPicPr/>
          <p:nvPr/>
        </p:nvPicPr>
        <p:blipFill>
          <a:blip r:embed="rId10"/>
          <a:stretch/>
        </p:blipFill>
        <p:spPr>
          <a:xfrm>
            <a:off x="517680" y="5979960"/>
            <a:ext cx="818820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1" descr=""/>
          <p:cNvPicPr/>
          <p:nvPr/>
        </p:nvPicPr>
        <p:blipFill>
          <a:blip r:embed="rId1"/>
          <a:stretch/>
        </p:blipFill>
        <p:spPr>
          <a:xfrm>
            <a:off x="328680" y="1190520"/>
            <a:ext cx="8486640" cy="48103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2"/>
          <a:stretch/>
        </p:blipFill>
        <p:spPr>
          <a:xfrm>
            <a:off x="8035920" y="3368520"/>
            <a:ext cx="46512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2" descr=""/>
          <p:cNvPicPr/>
          <p:nvPr/>
        </p:nvPicPr>
        <p:blipFill>
          <a:blip r:embed="rId1"/>
          <a:stretch/>
        </p:blipFill>
        <p:spPr>
          <a:xfrm>
            <a:off x="309600" y="1704960"/>
            <a:ext cx="8524800" cy="34480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2"/>
          <a:stretch/>
        </p:blipFill>
        <p:spPr>
          <a:xfrm>
            <a:off x="8004240" y="4246560"/>
            <a:ext cx="46512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Picture 1" descr=""/>
          <p:cNvPicPr/>
          <p:nvPr/>
        </p:nvPicPr>
        <p:blipFill>
          <a:blip r:embed="rId1"/>
          <a:stretch/>
        </p:blipFill>
        <p:spPr>
          <a:xfrm>
            <a:off x="347760" y="1000080"/>
            <a:ext cx="8448480" cy="54291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2" descr=""/>
          <p:cNvPicPr/>
          <p:nvPr/>
        </p:nvPicPr>
        <p:blipFill>
          <a:blip r:embed="rId2"/>
          <a:stretch/>
        </p:blipFill>
        <p:spPr>
          <a:xfrm>
            <a:off x="3643200" y="6357960"/>
            <a:ext cx="1857600" cy="3427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3"/>
          <a:stretch/>
        </p:blipFill>
        <p:spPr>
          <a:xfrm>
            <a:off x="3214800" y="2000160"/>
            <a:ext cx="465120" cy="3970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4"/>
          <a:stretch/>
        </p:blipFill>
        <p:spPr>
          <a:xfrm>
            <a:off x="6000840" y="5961240"/>
            <a:ext cx="92844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6:53:23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